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E6E4-B06D-46E1-B135-4D9742A0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E737-B236-4FF8-8AC8-0D09839F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38FB-0CB0-4C1D-A06D-55AED856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F05-EEE6-4076-9A96-FE501FDA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6442-D266-4EFA-9EAC-73130070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52D6-E7C9-4899-9460-EE4BA20F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859D-5B59-4A51-9512-6B333752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01EA-7454-43A1-9BE3-FB7172D3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85B4-CCDC-4B36-94F1-FB7DC057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D52D-1ED5-4F8E-9C96-0F92AE39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0D03-4FB3-4221-97EF-CE5F0657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7A0E-1263-4F64-BD7F-5B7770C6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8504-9288-470B-BBA3-711A0F346F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 u="sng">
                <a:solidFill>
                  <a:srgbClr val="996633"/>
                </a:solidFill>
                <a:uFillTx/>
                <a:latin typeface="Comic Sans MS"/>
              </a:rPr>
              <a:t>Long, long, long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Comic Sans MS"/>
              </a:rPr>
              <a:t>Un crocodile, c’est long, long, 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Comic Sans MS"/>
              </a:rPr>
              <a:t>Une fourmi, c’est riquiqu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305560" cy="2478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809880" y="5105520"/>
            <a:ext cx="1270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0"/>
            <a:ext cx="822960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Comic Sans MS"/>
              </a:rPr>
              <a:t>Un éléphant, c’est gros, gros, gro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Comic Sans MS"/>
              </a:rPr>
              <a:t>Une souris, c’est tout pet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09680" y="685800"/>
            <a:ext cx="4672080" cy="413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flipH="1">
            <a:off x="3505320" y="5409360"/>
            <a:ext cx="228600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822960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Comic Sans MS"/>
              </a:rPr>
              <a:t>Une girafe, c’est haut, haut, ha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Comic Sans MS"/>
              </a:rPr>
              <a:t>Un poussin, c’est mini mi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705720" y="990720"/>
            <a:ext cx="1490400" cy="5410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257800" y="4648320"/>
            <a:ext cx="6984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0"/>
            <a:ext cx="8229600" cy="61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Comic Sans MS"/>
              </a:rPr>
              <a:t>L’hippopotame est rond, rond, ro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Comic Sans MS"/>
              </a:rPr>
              <a:t>Et le poisson tout apl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5029200" cy="3503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286000" y="4876920"/>
            <a:ext cx="467208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Comic Sans MS"/>
              </a:rPr>
              <a:t>Un crocodile, c’est long, long, l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Comic Sans MS"/>
              </a:rPr>
              <a:t>Une fourmi, c’est riquiqu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Comic Sans MS"/>
              </a:rPr>
              <a:t>Un éléphant, c’est gros, gros, gro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Comic Sans MS"/>
              </a:rPr>
              <a:t>Une souris, c’est tout pet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Comic Sans MS"/>
              </a:rPr>
              <a:t>Une girafe, c’est haut, haut, hau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Comic Sans MS"/>
              </a:rPr>
              <a:t>Un poussin, c’est mini, mi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Comic Sans MS"/>
              </a:rPr>
              <a:t>L’hippopotame est rond, rond, ro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6633"/>
                </a:solidFill>
                <a:latin typeface="Comic Sans MS"/>
              </a:rPr>
              <a:t>Et le poisson tout apl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7T19:53:16Z</dcterms:created>
  <dc:creator>florence barats</dc:creator>
  <dc:description/>
  <dc:language>en-US</dc:language>
  <cp:lastModifiedBy>Teacher</cp:lastModifiedBy>
  <dcterms:modified xsi:type="dcterms:W3CDTF">2006-10-19T18:37:57Z</dcterms:modified>
  <cp:revision>3</cp:revision>
  <dc:subject/>
  <dc:title>Long, long, long</dc:title>
</cp:coreProperties>
</file>